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DBC2-28FC-42F6-877D-569116627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98E8-AD2C-423B-8CA1-A228860C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6761-FB02-4EE3-BA2F-723BC9CD0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1AFD-9B85-4F77-B063-A37F64751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EAFB0-BD8B-4D37-871F-C29450067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EABE4-93AC-4022-A491-3C6673A44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A3DDE-B0F5-4FD2-B590-39068134A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4AFCB-A659-4A36-BF0F-8FF44D7B6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00342-C797-44E6-A172-C9E0E08A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F8544-5D06-4851-B449-4242F86C6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59377-5DE5-479A-A827-BCD9FC29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9A0C-BC1D-4F49-9B4C-02372D73E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1BE32-1B6D-404E-A03C-3B6B7E18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901D4-D58E-46D7-84A0-8FE0D32A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326C9-70D9-4405-85EB-DA65C4299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2FCF9-DB21-4BFF-A8A0-0329518DA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50C91-A66A-4E21-BCDF-604D95F53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0FC28-6118-4377-8BF1-F65B66BE9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09D6B-FE20-4F01-9368-2234EC163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91E13-6368-4256-94DA-CC3A59752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BF65C-0E6A-4FF1-85CC-A94F3CD1F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88E81-76D5-4EA1-8757-AE0D8913A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B007-72E0-45CA-814C-D88D45CDC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7574C-8236-4686-9B23-ACC1C549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513D6-09E1-4C5D-A4D3-C96D5C93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87869-803A-4A90-852C-5CB77291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B00C4-8354-4904-9ADB-8C1ADC61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5EAA5-112B-4291-93AD-1968C2EAF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25BDD-D3C2-4B5B-9499-38B9E3468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5FF4D-FDF2-48DF-9838-3492292A6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D2C4-18E5-4E51-B505-05333E58F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C32D-FA47-43FD-AA5E-F9BD1DC10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013C-09A9-4E88-BA9E-86F25CDC8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6807-D400-4687-A7CA-3E43EBF6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596A-E18A-4AEE-AFA2-088F55B0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5A55-3CBF-4E81-9ADC-FA8D4394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8CF53-9F3D-4785-8E62-752C3C149FE3}" type="slidenum">
              <a:rPr b="0" i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7F3E5-9068-4769-8A18-AD45959972E1}" type="slidenum">
              <a:rPr b="0" i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143D0-57AF-4B5D-B65F-0993E51AEEF5}" type="slidenum">
              <a:rPr b="0" i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Osnovni hvatovi u manuelnoj masa</a:t>
            </a:r>
            <a:r>
              <a:rPr b="1" lang="sr-Latn-C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ž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898989"/>
                </a:solidFill>
                <a:latin typeface="Calibri"/>
              </a:rPr>
              <a:t>Doc dr Tanja Lukovi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ljanje (friction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vršnim tkivom masira se dublje (potkožn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to veće trenje, sporiji i snažniji rit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ekti: povećanje elastičnosti i kontraktilnosti mišić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 ožiljke, adhezije, fibrozna zadebljen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7" descr=""/>
          <p:cNvPicPr/>
          <p:nvPr/>
        </p:nvPicPr>
        <p:blipFill>
          <a:blip r:embed="rId1"/>
          <a:stretch/>
        </p:blipFill>
        <p:spPr>
          <a:xfrm>
            <a:off x="4876920" y="2438280"/>
            <a:ext cx="403848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1303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53316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ret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j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j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ršit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ez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edijuma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st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b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iz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ž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ć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vajaju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žu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kožnog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iv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uju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blj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jev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iv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lnarnim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om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ak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langealnim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globovim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sti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rij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č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ret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o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d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a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đ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j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vodit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vcu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etanj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sk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v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vcu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šićnih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lakan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prečno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nosu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šićn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lakn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užno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šestrano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vila za trljan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j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vršin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ć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tisak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ć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gao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ć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tisak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ekti trljanj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grevanje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iv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z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kšav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je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hezij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žiljak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većanje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kulacije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renje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pilar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njenje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koč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ti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globov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mulisanje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eneracije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nječenje (pretisag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va masaž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aža mišića, aparaturno nezamenj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ekti: hiperemija mišića, smanjenje tonusa, eliminacija metaboli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10" descr=""/>
          <p:cNvPicPr/>
          <p:nvPr/>
        </p:nvPicPr>
        <p:blipFill>
          <a:blip r:embed="rId1">
            <a:grayscl/>
            <a:lum contrast="12000"/>
          </a:blip>
          <a:stretch/>
        </p:blipFill>
        <p:spPr>
          <a:xfrm>
            <a:off x="5843520" y="2133720"/>
            <a:ext cx="2691000" cy="3581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vila gnječen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skanj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đ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j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iv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presij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nov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izanj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nov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anično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krivljenj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vcu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sk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v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ro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jako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begavanj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leksn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trakcij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šić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d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petijih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šić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b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vodit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žnij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tipat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kakat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mereno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glo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ekti gnječen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iminacij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čkog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pad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vo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đ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je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eže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vi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ime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boljšav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hran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iv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vajanje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šićnih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iv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zbijanje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hezij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tezanje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renje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iv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većanje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retljivosti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iv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mulacij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rvnog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tem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pkanje (percusion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90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zi ritmični odsečni udari naizmenič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lnarnom strano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kanje”,volarnom stranom “pljeskanje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odicam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stiju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ckanj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ekti:poboljšava metabolizam i tonus  mišića, stimulativ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7" descr=""/>
          <p:cNvPicPr/>
          <p:nvPr/>
        </p:nvPicPr>
        <p:blipFill>
          <a:blip r:embed="rId1"/>
          <a:stretch/>
        </p:blipFill>
        <p:spPr>
          <a:xfrm>
            <a:off x="5105520" y="1600200"/>
            <a:ext cx="3733560" cy="4191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vila lupkan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tani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i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kcesivni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dar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tmično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zo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k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apeut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to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ać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taktu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ijentom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jako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pkat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toničn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šić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vcu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sk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v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vodit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ko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štanih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ov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nj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o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kolenic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ašic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eolus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 preko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eo bubreg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ratn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čm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ekti lupkan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mulacij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rvnog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tem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većanje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kalne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kulacije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njenje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enzitizaciju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rvnih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vršet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uštanje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ko nervnog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tem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o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vodi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že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re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bracije (vibration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zi, uzastopni potresi segmenata koji se masi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ekti: smanjuje nadražljivost i prag za b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rati za vibromasaž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7" descr=""/>
          <p:cNvPicPr/>
          <p:nvPr/>
        </p:nvPicPr>
        <p:blipFill>
          <a:blip r:embed="rId1"/>
          <a:stretch/>
        </p:blipFill>
        <p:spPr>
          <a:xfrm>
            <a:off x="4952880" y="2362320"/>
            <a:ext cx="335304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Podela mehanoterapi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87280" indent="-103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manuelna masa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ž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7280" indent="-103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specijalni oblici masa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ž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7280" indent="-103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aparaturna masa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ž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7280" indent="-103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hipobari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č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ne proced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7280" indent="-103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manuelne terapijske tehnike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(manipulacij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7280" indent="-103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esktenzione procedure (trakcij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7280" indent="-103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sonoterapija (infra i ultrazvuk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7280" indent="-103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547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3"/>
          <p:cNvSpPr/>
          <p:nvPr/>
        </p:nvSpPr>
        <p:spPr>
          <a:xfrm>
            <a:off x="533520" y="-311040"/>
            <a:ext cx="8001000" cy="58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resanj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perenj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rhtavanj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juljanj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iv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stim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li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lanom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begavanj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mor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apeut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avlj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šak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lom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jmanje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5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en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ije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10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k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kundi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žefrekventn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bracij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uju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dativno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sokofrekventn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dražajno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1447920" y="379440"/>
            <a:ext cx="541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Times New Roman"/>
              </a:rPr>
              <a:t>Pravila za vibracije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ekti vibraci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ksacij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većanje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kulacije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njenje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mulacij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rioceptor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njenje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zitivnosti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idačkih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čak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mulacij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ko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dražajnih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on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3"/>
          <p:cNvSpPr/>
          <p:nvPr/>
        </p:nvSpPr>
        <p:spPr>
          <a:xfrm>
            <a:off x="609480" y="-228600"/>
            <a:ext cx="822960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đ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hvatovi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Češljanj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rzumo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snut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snic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ovim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ivno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šićno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o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glanj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rzalno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no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kstendirani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stiju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9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en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akarpofalangealni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globovim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janj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janj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p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šić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k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čvrst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log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zme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v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k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Štipkanj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čupkanj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kiv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lce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žiprsto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gan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štin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voj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log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žiljak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hezij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ženj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rav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tezanj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st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anov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av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icu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kiv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aljavaju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stežuć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žu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žiljak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hezij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stresanj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čn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bracijam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z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kret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lik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plitud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kstremitetim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zme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v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šak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stres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kiv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manje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k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z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men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šti efekti masaž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njenje mišićnog tonu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get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njenje opšteg zam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dacija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ksaci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d TA, regulacija pul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č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ziološki efekti masaž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kalni efek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emi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rpcija oto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čk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većanje aktivnosti znojnih i lojnih žlez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većanje turgora i elastičnosti kož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boljšanje epitelizacije i granulaci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getski, spazmolitičk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kacije za opštu masaž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kovanlescenci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aktivit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m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teni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zmetik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kacije za lokalnu masaž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traumatske prom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žiljc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trak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umatska oboljenja u suba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noj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hr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j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az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astične i mlitave paraliz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aktivitetna slab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ovi (reumatski, išijadični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vod u kineziterapij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traindikacije za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elnu </a:t>
            </a:r>
            <a:r>
              <a:rPr b="1" lang="sr-Latn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až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paljenski procesi kože i potkožnog tki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žne bole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mo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čni procesi na zglobovi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mfagitis, tromboflebi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kozite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olonost ka krvarenj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i manuelne masaž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č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ije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vetlje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eratura oko 2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jum (talk, vazel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NE masirati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eže ožiljke, rane, varikozite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pecijalni vidovi</a:t>
            </a: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 masaž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440" y="20574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preko tačaka na koži deluje na organe koji imaju isti nivo spinalne inervaci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kod oboljenja unutrašnjih organa, nervnog sistema i zglobova, u zoni koja ima isti nivo spinalne inervacije, javljaju se promene na površini (u koži, potkožnom tkivu, mišićima i periostu) koje održavaju osnovno oboljenj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3200" spc="-1" strike="noStrike">
                <a:solidFill>
                  <a:srgbClr val="c0504d"/>
                </a:solidFill>
                <a:latin typeface="Calibri"/>
              </a:rPr>
              <a:t>postaju izvor patoloških impul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Vrste masaže (prema nameni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terapijska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- klasična manuelna masaž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- limfna drenaž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- refleksna masaž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sports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higijens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Vrste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specijal</a:t>
            </a:r>
            <a:r>
              <a:rPr b="1" lang="sr-Latn-C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ne</a:t>
            </a:r>
            <a:r>
              <a:rPr b="1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masa</a:t>
            </a:r>
            <a:r>
              <a:rPr b="1" lang="sr-Latn-C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ž</a:t>
            </a:r>
            <a:r>
              <a:rPr b="1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20574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pecijal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nom masažom se otkrivaju  patološke promene u refleksnim zonama i deluje na njih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oseb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nom masažom radi njihovog otklanjan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masa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ž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 vezivnog tk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masa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ž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 perios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masa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ž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 nervnih ta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č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egmentna masa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ž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Masaža vezivnog tkiv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Povećanje tenzije veziva u Hedovim zonama, reljef kože izmenjen, čvorići u  potkožnom tkivu, slojevi manje pokret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Tangecijalno povlačenje kože i potkožnog tkiva od fascije jagodicama 3. i 4.prsta; u pravcu linija rascepa uz lak, oštar bol,15-20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Ulkus, spazmi m.bešike,išijas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Periostna masaž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Otkriva neravnine u vidu udubljenja i izbočenja- periostne tačke i blok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Jagodicom srednjeg prsta 1 u se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3-5 min, pritisak se pojačava kažiprst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Stenokardije, ulkus želuca i dvanaestopalačnog,glavobolja, neuralgije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Segmentna masaž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Pronalaženje patoloških promena po slojevi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Obrada refleksogenih zona u koži, potkožnom tkivu, mišićima, periostu.. klasičnim hvatovima, 20 min, na II d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Izražena hiperemija i odsustvo jakog bol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Hronična KVS,RS,ginekološka,glavobolje, išijalgij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Manuelna </a:t>
            </a:r>
            <a:r>
              <a:rPr b="1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masa</a:t>
            </a:r>
            <a:r>
              <a:rPr b="1" lang="sr-Latn-C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ž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44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m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etodi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č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ki pokret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i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ruku 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terapeuta na telu pacijenta (,,pasivna kineziterapija,,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Dvojak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draženje ekstero, proprio i interoceptora – refleksne promene na unutrašnjim organi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direktno dejstvo na tkiv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Namer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itisak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veličin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imenjene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ile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(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veći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itisak-sporije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o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je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manj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ovršin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kojom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masiramo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npr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lac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ili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dlan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)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što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je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ovršin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kojom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masiramo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vr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đ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npr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lakat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ili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dlan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o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je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itisak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veći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okret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poriji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Dubin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vaki hvat ciljano deluje na određeno tkiv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Veličin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ovršine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koju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bra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đ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ujemo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jednim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hvatom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visi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d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og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d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li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erapeut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želi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d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retir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celu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regiju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ili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jedan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mišić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ili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mišićnu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grupu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deo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regije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533520" y="612720"/>
            <a:ext cx="7467480" cy="60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i</a:t>
            </a:r>
            <a:r>
              <a:rPr b="0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ažnih</a:t>
            </a:r>
            <a:r>
              <a:rPr b="0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vatova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tam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navljanj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jednačenost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ažnih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ret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tinuitet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k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ret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laz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ret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ret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janj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remen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većen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tiranju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re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đ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j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aganje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binacije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ret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osled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zin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ž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ret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mulišić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r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uštajuć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ađenje (effleurag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4724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vodni i završni hva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d periferije ka centru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a gradijentom priti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noručno ili dvoručno, istovremeno ili naizmenič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lano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naro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otenaro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rzumo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ake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godicam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stij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volinijski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užn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k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k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vršn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bok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uje na površna tk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5181480" y="2286000"/>
            <a:ext cx="3048120" cy="4038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ekti glađen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28240" y="1219320"/>
            <a:ext cx="84582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oznavanje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ijent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nošenje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jum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grevanje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vršinskog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iv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n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j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iv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laz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me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đ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vatov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mor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me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đ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ih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čnijih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vatov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boljšanje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kulacije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mfotok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mirujuće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i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m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šuće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jstvo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tiranu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ju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išćenje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že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umrlih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ćelij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kret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jnih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ojnih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lezd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rpcij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em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o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ešljanj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dvrsta glađen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rzalnom stranom prstiju šake koja je savijena u pesnic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8" descr=""/>
          <p:cNvPicPr/>
          <p:nvPr/>
        </p:nvPicPr>
        <p:blipFill>
          <a:blip r:embed="rId1"/>
          <a:stretch/>
        </p:blipFill>
        <p:spPr>
          <a:xfrm>
            <a:off x="5715000" y="2209680"/>
            <a:ext cx="2819520" cy="365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7T09:40:59Z</dcterms:created>
  <dc:creator>WIN98SE</dc:creator>
  <dc:description/>
  <dc:language>en-US</dc:language>
  <cp:lastModifiedBy>Info</cp:lastModifiedBy>
  <dcterms:modified xsi:type="dcterms:W3CDTF">2018-08-13T20:31:28Z</dcterms:modified>
  <cp:revision>60</cp:revision>
  <dc:subject/>
  <dc:title>MEHANOTERAPIJA </dc:title>
</cp:coreProperties>
</file>